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9.gif" ContentType="image/gif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C69-BF61-48CA-A3B6-3DCDB3CE1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2E7C-6BF1-4C25-B2BF-1A33F4AFC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F34-18BD-439A-B932-CF8C9AEE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15D-DE15-4527-9155-31D12D44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7B3-DC55-46A1-A448-5C2FCB15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2A2-247D-4478-9D06-AFAE6897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95E-858B-4C3C-90D9-E1C7E43B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DF7-E319-4AE9-8C35-B6972C34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60D-9342-4DF5-AC56-2747D8F2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456-14A0-488D-9591-8A519084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3BD-CCCC-46C1-A7D9-0C938719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3FA-CF90-4F6B-99F6-317751DB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E4C-146A-4EEF-8475-1B4BB2E6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FEB-716D-4716-B073-B6AE2207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6F89-B661-414C-9B6C-FA5E8B62D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image" Target="../media/image16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OR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 rot="5400000">
            <a:off x="-1106280" y="291456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中心对称图形</a:t>
            </a:r>
            <a:endParaRPr b="1" i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884600" y="620640"/>
            <a:ext cx="563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按要求画一个图形，所画图形中同时要有一个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方形和一个圆，并且这个图形即是轴对称图形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是中心对称图形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395280" y="2786040"/>
            <a:ext cx="1584360" cy="1795320"/>
            <a:chOff x="395280" y="2786040"/>
            <a:chExt cx="1584360" cy="1795320"/>
          </a:xfrm>
        </p:grpSpPr>
        <p:grpSp>
          <p:nvGrpSpPr>
            <p:cNvPr id="122" name="Group 4"/>
            <p:cNvGrpSpPr/>
            <p:nvPr/>
          </p:nvGrpSpPr>
          <p:grpSpPr>
            <a:xfrm>
              <a:off x="395280" y="2786040"/>
              <a:ext cx="1584360" cy="1795320"/>
              <a:chOff x="395280" y="2786040"/>
              <a:chExt cx="1584360" cy="1795320"/>
            </a:xfrm>
          </p:grpSpPr>
          <p:sp>
            <p:nvSpPr>
              <p:cNvPr id="123" name="Text Box 5"/>
              <p:cNvSpPr/>
              <p:nvPr/>
            </p:nvSpPr>
            <p:spPr>
              <a:xfrm>
                <a:off x="808200" y="2786040"/>
                <a:ext cx="183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6"/>
              <p:cNvSpPr/>
              <p:nvPr/>
            </p:nvSpPr>
            <p:spPr>
              <a:xfrm>
                <a:off x="395280" y="2997360"/>
                <a:ext cx="1584360" cy="158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7"/>
              <p:cNvSpPr/>
              <p:nvPr/>
            </p:nvSpPr>
            <p:spPr>
              <a:xfrm>
                <a:off x="755640" y="342900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6" name="Text Box 8"/>
            <p:cNvSpPr/>
            <p:nvPr/>
          </p:nvSpPr>
          <p:spPr>
            <a:xfrm>
              <a:off x="1004760" y="350028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方正舒体"/>
                  <a:ea typeface="方正舒体"/>
                </a:rPr>
                <a:t>.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Group 29"/>
          <p:cNvGrpSpPr/>
          <p:nvPr/>
        </p:nvGrpSpPr>
        <p:grpSpPr>
          <a:xfrm>
            <a:off x="2340000" y="2997360"/>
            <a:ext cx="1584360" cy="1584000"/>
            <a:chOff x="2340000" y="2997360"/>
            <a:chExt cx="1584360" cy="1584000"/>
          </a:xfrm>
        </p:grpSpPr>
        <p:sp>
          <p:nvSpPr>
            <p:cNvPr id="128" name="Oval 11"/>
            <p:cNvSpPr/>
            <p:nvPr/>
          </p:nvSpPr>
          <p:spPr>
            <a:xfrm>
              <a:off x="2340000" y="2997360"/>
              <a:ext cx="1584360" cy="158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2598840" y="3284640"/>
              <a:ext cx="1081080" cy="10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Text Box 13"/>
          <p:cNvSpPr/>
          <p:nvPr/>
        </p:nvSpPr>
        <p:spPr>
          <a:xfrm>
            <a:off x="3099960" y="345276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方正舒体"/>
                <a:ea typeface="方正舒体"/>
              </a:rPr>
              <a:t>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4572000" y="2924280"/>
            <a:ext cx="2303640" cy="1584360"/>
            <a:chOff x="4572000" y="2924280"/>
            <a:chExt cx="2303640" cy="1584360"/>
          </a:xfrm>
        </p:grpSpPr>
        <p:grpSp>
          <p:nvGrpSpPr>
            <p:cNvPr id="132" name="Group 15"/>
            <p:cNvGrpSpPr/>
            <p:nvPr/>
          </p:nvGrpSpPr>
          <p:grpSpPr>
            <a:xfrm>
              <a:off x="4572000" y="2924280"/>
              <a:ext cx="1584360" cy="1584360"/>
              <a:chOff x="4572000" y="2924280"/>
              <a:chExt cx="1584360" cy="1584360"/>
            </a:xfrm>
          </p:grpSpPr>
          <p:sp>
            <p:nvSpPr>
              <p:cNvPr id="133" name="Oval 16"/>
              <p:cNvSpPr/>
              <p:nvPr/>
            </p:nvSpPr>
            <p:spPr>
              <a:xfrm>
                <a:off x="4572000" y="2924280"/>
                <a:ext cx="1584360" cy="158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Line 17"/>
              <p:cNvSpPr/>
              <p:nvPr/>
            </p:nvSpPr>
            <p:spPr>
              <a:xfrm>
                <a:off x="4572000" y="2924280"/>
                <a:ext cx="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18"/>
              <p:cNvSpPr/>
              <p:nvPr/>
            </p:nvSpPr>
            <p:spPr>
              <a:xfrm>
                <a:off x="4572000" y="450864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Line 19"/>
              <p:cNvSpPr/>
              <p:nvPr/>
            </p:nvSpPr>
            <p:spPr>
              <a:xfrm>
                <a:off x="4572000" y="2924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Line 20"/>
              <p:cNvSpPr/>
              <p:nvPr/>
            </p:nvSpPr>
            <p:spPr>
              <a:xfrm>
                <a:off x="6156360" y="2924280"/>
                <a:ext cx="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" name="Line 21"/>
            <p:cNvSpPr/>
            <p:nvPr/>
          </p:nvSpPr>
          <p:spPr>
            <a:xfrm>
              <a:off x="6875640" y="29242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Text Box 22"/>
            <p:cNvSpPr/>
            <p:nvPr/>
          </p:nvSpPr>
          <p:spPr>
            <a:xfrm>
              <a:off x="5181480" y="342900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方正舒体"/>
                  <a:ea typeface="方正舒体"/>
                </a:rPr>
                <a:t>.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23"/>
          <p:cNvGrpSpPr/>
          <p:nvPr/>
        </p:nvGrpSpPr>
        <p:grpSpPr>
          <a:xfrm>
            <a:off x="6875640" y="2924280"/>
            <a:ext cx="1584000" cy="1584360"/>
            <a:chOff x="6875640" y="2924280"/>
            <a:chExt cx="1584000" cy="1584360"/>
          </a:xfrm>
        </p:grpSpPr>
        <p:sp>
          <p:nvSpPr>
            <p:cNvPr id="141" name="Line 24"/>
            <p:cNvSpPr/>
            <p:nvPr/>
          </p:nvSpPr>
          <p:spPr>
            <a:xfrm>
              <a:off x="6875640" y="4508640"/>
              <a:ext cx="158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>
              <a:off x="6875640" y="2924280"/>
              <a:ext cx="158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8459640" y="29242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7093080" y="3141720"/>
              <a:ext cx="1079280" cy="107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28"/>
            <p:cNvSpPr/>
            <p:nvPr/>
          </p:nvSpPr>
          <p:spPr>
            <a:xfrm>
              <a:off x="7486560" y="342900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方正舒体"/>
                  <a:ea typeface="方正舒体"/>
                </a:rPr>
                <a:t>.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34800" y="38268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已知：如图矩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矩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对称 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求证：四边形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DB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是菱形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211640" y="2570040"/>
            <a:ext cx="49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38420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1607040" y="2046240"/>
            <a:ext cx="5299920" cy="3353040"/>
            <a:chOff x="1607040" y="2046240"/>
            <a:chExt cx="5299920" cy="3353040"/>
          </a:xfrm>
        </p:grpSpPr>
        <p:sp>
          <p:nvSpPr>
            <p:cNvPr id="150" name="Line 18"/>
            <p:cNvSpPr/>
            <p:nvPr/>
          </p:nvSpPr>
          <p:spPr>
            <a:xfrm>
              <a:off x="2129760" y="3639600"/>
              <a:ext cx="39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127760" y="2592000"/>
              <a:ext cx="0" cy="201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20"/>
            <p:cNvSpPr/>
            <p:nvPr/>
          </p:nvSpPr>
          <p:spPr>
            <a:xfrm flipV="1">
              <a:off x="2129760" y="2591640"/>
              <a:ext cx="1998000" cy="104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 flipH="1" flipV="1">
              <a:off x="4127760" y="2591640"/>
              <a:ext cx="1997280" cy="104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2129760" y="3639600"/>
              <a:ext cx="1998000" cy="104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 flipH="1">
              <a:off x="4127760" y="3639600"/>
              <a:ext cx="1997280" cy="104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>
              <a:off x="4127760" y="2592000"/>
              <a:ext cx="199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>
              <a:off x="6125400" y="2592000"/>
              <a:ext cx="0" cy="104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>
              <a:off x="2129760" y="3639600"/>
              <a:ext cx="0" cy="104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129760" y="4689000"/>
              <a:ext cx="199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4113720" y="36219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29"/>
            <p:cNvSpPr/>
            <p:nvPr/>
          </p:nvSpPr>
          <p:spPr>
            <a:xfrm>
              <a:off x="1607040" y="322704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30"/>
            <p:cNvSpPr/>
            <p:nvPr/>
          </p:nvSpPr>
          <p:spPr>
            <a:xfrm>
              <a:off x="1708560" y="45504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31"/>
            <p:cNvSpPr/>
            <p:nvPr/>
          </p:nvSpPr>
          <p:spPr>
            <a:xfrm>
              <a:off x="3942360" y="46958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32"/>
            <p:cNvSpPr/>
            <p:nvPr/>
          </p:nvSpPr>
          <p:spPr>
            <a:xfrm>
              <a:off x="6218640" y="34563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B’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33"/>
            <p:cNvSpPr/>
            <p:nvPr/>
          </p:nvSpPr>
          <p:spPr>
            <a:xfrm>
              <a:off x="6005520" y="2046240"/>
              <a:ext cx="71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C’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34"/>
            <p:cNvSpPr/>
            <p:nvPr/>
          </p:nvSpPr>
          <p:spPr>
            <a:xfrm>
              <a:off x="3659400" y="2046240"/>
              <a:ext cx="71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D’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50760" y="554040"/>
            <a:ext cx="729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、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平分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DE//AC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DF//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：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于直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5219640" y="1330200"/>
            <a:ext cx="3745080" cy="2746080"/>
            <a:chOff x="5219640" y="1330200"/>
            <a:chExt cx="3745080" cy="2746080"/>
          </a:xfrm>
        </p:grpSpPr>
        <p:sp>
          <p:nvSpPr>
            <p:cNvPr id="169" name="Line 4"/>
            <p:cNvSpPr/>
            <p:nvPr/>
          </p:nvSpPr>
          <p:spPr>
            <a:xfrm flipH="1">
              <a:off x="5473800" y="1825920"/>
              <a:ext cx="1785240" cy="177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>
              <a:off x="7260840" y="1825920"/>
              <a:ext cx="1329120" cy="177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5474160" y="3603240"/>
              <a:ext cx="3127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 flipH="1">
              <a:off x="6942600" y="1825920"/>
              <a:ext cx="317880" cy="177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 flipV="1">
              <a:off x="6240600" y="2851200"/>
              <a:ext cx="702000" cy="75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 flipV="1">
              <a:off x="6955560" y="2715480"/>
              <a:ext cx="943920" cy="87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WordArt 10"/>
            <p:cNvSpPr txBox="1"/>
            <p:nvPr/>
          </p:nvSpPr>
          <p:spPr>
            <a:xfrm>
              <a:off x="7153920" y="1330200"/>
              <a:ext cx="442800" cy="34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A</a:t>
              </a:r>
              <a:endPara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76" name="WordArt 11"/>
            <p:cNvSpPr txBox="1"/>
            <p:nvPr/>
          </p:nvSpPr>
          <p:spPr>
            <a:xfrm>
              <a:off x="5219640" y="3603240"/>
              <a:ext cx="254520" cy="30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77" name="WordArt 12"/>
            <p:cNvSpPr txBox="1"/>
            <p:nvPr/>
          </p:nvSpPr>
          <p:spPr>
            <a:xfrm>
              <a:off x="8664840" y="3740040"/>
              <a:ext cx="299880" cy="33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C</a:t>
              </a:r>
              <a:endPara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78" name="WordArt 13"/>
            <p:cNvSpPr txBox="1"/>
            <p:nvPr/>
          </p:nvSpPr>
          <p:spPr>
            <a:xfrm>
              <a:off x="6878160" y="3740040"/>
              <a:ext cx="382680" cy="33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D</a:t>
              </a:r>
              <a:endParaRPr b="1" i="1" lang="en-US" sz="1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79" name="WordArt 14"/>
            <p:cNvSpPr txBox="1"/>
            <p:nvPr/>
          </p:nvSpPr>
          <p:spPr>
            <a:xfrm>
              <a:off x="5921280" y="2395800"/>
              <a:ext cx="444600" cy="42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E</a:t>
              </a:r>
              <a:endPara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80" name="WordArt 15"/>
            <p:cNvSpPr txBox="1"/>
            <p:nvPr/>
          </p:nvSpPr>
          <p:spPr>
            <a:xfrm>
              <a:off x="8027640" y="2510280"/>
              <a:ext cx="216360" cy="34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F</a:t>
              </a:r>
              <a:endPara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81" name="WordArt 16"/>
            <p:cNvSpPr txBox="1"/>
            <p:nvPr/>
          </p:nvSpPr>
          <p:spPr>
            <a:xfrm>
              <a:off x="7005960" y="2031120"/>
              <a:ext cx="842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宋体"/>
                </a:rPr>
                <a:t>1</a:t>
              </a:r>
              <a:endPara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82" name="WordArt 17"/>
            <p:cNvSpPr txBox="1"/>
            <p:nvPr/>
          </p:nvSpPr>
          <p:spPr>
            <a:xfrm>
              <a:off x="7325280" y="2100600"/>
              <a:ext cx="842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宋体"/>
                </a:rPr>
                <a:t>2</a:t>
              </a:r>
              <a:endPara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83" name="WordArt 18"/>
            <p:cNvSpPr txBox="1"/>
            <p:nvPr/>
          </p:nvSpPr>
          <p:spPr>
            <a:xfrm>
              <a:off x="7069680" y="3262680"/>
              <a:ext cx="838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宋体"/>
                </a:rPr>
                <a:t>3</a:t>
              </a:r>
              <a:endPara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84" name="Text Box 19"/>
          <p:cNvSpPr/>
          <p:nvPr/>
        </p:nvSpPr>
        <p:spPr>
          <a:xfrm>
            <a:off x="1061280" y="2133720"/>
            <a:ext cx="406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证明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//AC DF//AB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边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ED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平行四边形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1450800" y="3068640"/>
            <a:ext cx="38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平分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AC ∴∠1=∠2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1635480" y="4076640"/>
            <a:ext cx="46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=∠3 ∴∠2=∠3 ∴AF=DF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22"/>
          <p:cNvGrpSpPr/>
          <p:nvPr/>
        </p:nvGrpSpPr>
        <p:grpSpPr>
          <a:xfrm>
            <a:off x="1454040" y="4653000"/>
            <a:ext cx="4413240" cy="459720"/>
            <a:chOff x="1454040" y="4653000"/>
            <a:chExt cx="4413240" cy="459720"/>
          </a:xfrm>
        </p:grpSpPr>
        <p:sp>
          <p:nvSpPr>
            <p:cNvPr id="188" name="Text Box 23"/>
            <p:cNvSpPr/>
            <p:nvPr/>
          </p:nvSpPr>
          <p:spPr>
            <a:xfrm>
              <a:off x="1454040" y="4653000"/>
              <a:ext cx="44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EDF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是菱形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24"/>
            <p:cNvGrpSpPr/>
            <p:nvPr/>
          </p:nvGrpSpPr>
          <p:grpSpPr>
            <a:xfrm>
              <a:off x="1885680" y="4820400"/>
              <a:ext cx="359640" cy="249480"/>
              <a:chOff x="1885680" y="4820400"/>
              <a:chExt cx="359640" cy="249480"/>
            </a:xfrm>
          </p:grpSpPr>
          <p:sp>
            <p:nvSpPr>
              <p:cNvPr id="190" name="Line 25"/>
              <p:cNvSpPr/>
              <p:nvPr/>
            </p:nvSpPr>
            <p:spPr>
              <a:xfrm>
                <a:off x="2004480" y="4820400"/>
                <a:ext cx="240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Line 26"/>
              <p:cNvSpPr/>
              <p:nvPr/>
            </p:nvSpPr>
            <p:spPr>
              <a:xfrm flipH="1">
                <a:off x="1885680" y="4820400"/>
                <a:ext cx="118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Line 27"/>
              <p:cNvSpPr/>
              <p:nvPr/>
            </p:nvSpPr>
            <p:spPr>
              <a:xfrm flipH="1">
                <a:off x="2126520" y="4820400"/>
                <a:ext cx="118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Line 28"/>
              <p:cNvSpPr/>
              <p:nvPr/>
            </p:nvSpPr>
            <p:spPr>
              <a:xfrm>
                <a:off x="1885680" y="5069880"/>
                <a:ext cx="240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Text Box 29"/>
          <p:cNvSpPr/>
          <p:nvPr/>
        </p:nvSpPr>
        <p:spPr>
          <a:xfrm>
            <a:off x="1474920" y="508464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平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F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1711080" y="5608800"/>
            <a:ext cx="28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则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称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泰姬陵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503280" y="1042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心对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心对称图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 区别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956600" y="2301840"/>
            <a:ext cx="508752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区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中心对称指两个全等图形的相互位置关系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中心对称图形指一个图形本身成中心对称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00"/>
          <p:cNvPicPr/>
          <p:nvPr/>
        </p:nvPicPr>
        <p:blipFill>
          <a:blip r:embed="rId1"/>
          <a:stretch/>
        </p:blipFill>
        <p:spPr>
          <a:xfrm>
            <a:off x="380880" y="914400"/>
            <a:ext cx="2670120" cy="1776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113"/>
          <p:cNvPicPr/>
          <p:nvPr/>
        </p:nvPicPr>
        <p:blipFill>
          <a:blip r:embed="rId2"/>
          <a:stretch/>
        </p:blipFill>
        <p:spPr>
          <a:xfrm>
            <a:off x="3492360" y="907920"/>
            <a:ext cx="2895840" cy="18003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4"/>
          <p:cNvSpPr/>
          <p:nvPr/>
        </p:nvSpPr>
        <p:spPr>
          <a:xfrm>
            <a:off x="4500720" y="5661000"/>
            <a:ext cx="360036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5003640" y="5661000"/>
            <a:ext cx="2592720" cy="360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20040520092130354"/>
          <p:cNvPicPr/>
          <p:nvPr/>
        </p:nvPicPr>
        <p:blipFill>
          <a:blip r:embed="rId3"/>
          <a:stretch/>
        </p:blipFill>
        <p:spPr>
          <a:xfrm>
            <a:off x="6659640" y="907920"/>
            <a:ext cx="1762200" cy="1960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未命名"/>
          <p:cNvPicPr/>
          <p:nvPr/>
        </p:nvPicPr>
        <p:blipFill>
          <a:blip r:embed="rId4"/>
          <a:stretch/>
        </p:blipFill>
        <p:spPr>
          <a:xfrm>
            <a:off x="3708360" y="3141720"/>
            <a:ext cx="2232000" cy="1673280"/>
          </a:xfrm>
          <a:prstGeom prst="rect">
            <a:avLst/>
          </a:prstGeom>
          <a:ln w="0">
            <a:noFill/>
          </a:ln>
        </p:spPr>
      </p:pic>
      <p:sp>
        <p:nvSpPr>
          <p:cNvPr id="205" name="Oval 8"/>
          <p:cNvSpPr/>
          <p:nvPr/>
        </p:nvSpPr>
        <p:spPr>
          <a:xfrm>
            <a:off x="6372360" y="2924280"/>
            <a:ext cx="205740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6" name="AutoShape 9"/>
          <p:cNvCxnSpPr>
            <a:stCxn id="205" idx="0"/>
            <a:endCxn id="205" idx="4"/>
          </p:cNvCxnSpPr>
          <p:nvPr/>
        </p:nvCxnSpPr>
        <p:spPr>
          <a:xfrm>
            <a:off x="7400520" y="2885760"/>
            <a:ext cx="1080" cy="2057760"/>
          </a:xfrm>
          <a:prstGeom prst="straightConnector1">
            <a:avLst/>
          </a:prstGeom>
          <a:ln w="76320">
            <a:solidFill>
              <a:srgbClr val="cc0066"/>
            </a:solidFill>
            <a:miter/>
          </a:ln>
        </p:spPr>
      </p:cxnSp>
      <p:sp>
        <p:nvSpPr>
          <p:cNvPr id="207" name="Rectangle 10"/>
          <p:cNvSpPr/>
          <p:nvPr/>
        </p:nvSpPr>
        <p:spPr>
          <a:xfrm>
            <a:off x="7010280" y="548640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6804000" y="3716280"/>
            <a:ext cx="1143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12" descr="花魁"/>
          <p:cNvPicPr/>
          <p:nvPr/>
        </p:nvPicPr>
        <p:blipFill>
          <a:blip r:embed="rId5"/>
          <a:stretch/>
        </p:blipFill>
        <p:spPr>
          <a:xfrm>
            <a:off x="539640" y="2781360"/>
            <a:ext cx="2438640" cy="1911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雪花"/>
          <p:cNvPicPr/>
          <p:nvPr/>
        </p:nvPicPr>
        <p:blipFill>
          <a:blip r:embed="rId6"/>
          <a:stretch/>
        </p:blipFill>
        <p:spPr>
          <a:xfrm>
            <a:off x="1187280" y="501336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1738080" y="131760"/>
            <a:ext cx="41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下列图形哪些是中心对称图形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273040" y="981000"/>
            <a:ext cx="48484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知识回顾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心对称的定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个图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着某一点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,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它能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另一个图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说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个图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这个点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66200" y="33130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21280" y="2641680"/>
            <a:ext cx="4078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中心对称的性质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心对称的两个图形是全等形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031480" y="3475080"/>
            <a:ext cx="570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于中心对称的两个图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点连线都经过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中心且被对称中心平分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4" name="AutoShape 2"/>
          <p:cNvCxnSpPr>
            <a:stCxn id="55" idx="0"/>
            <a:endCxn id="55" idx="4"/>
          </p:cNvCxnSpPr>
          <p:nvPr/>
        </p:nvCxnSpPr>
        <p:spPr>
          <a:xfrm>
            <a:off x="7525800" y="511200"/>
            <a:ext cx="1080" cy="2021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" name="Rectangle 3"/>
          <p:cNvSpPr/>
          <p:nvPr/>
        </p:nvSpPr>
        <p:spPr>
          <a:xfrm>
            <a:off x="6948360" y="1341360"/>
            <a:ext cx="1079640" cy="5032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4"/>
          <p:cNvSpPr/>
          <p:nvPr/>
        </p:nvSpPr>
        <p:spPr>
          <a:xfrm>
            <a:off x="6516720" y="549360"/>
            <a:ext cx="2017800" cy="194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5" descr="未命名"/>
          <p:cNvPicPr/>
          <p:nvPr/>
        </p:nvPicPr>
        <p:blipFill>
          <a:blip r:embed="rId1"/>
          <a:stretch/>
        </p:blipFill>
        <p:spPr>
          <a:xfrm>
            <a:off x="395280" y="26028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未命名"/>
          <p:cNvPicPr/>
          <p:nvPr/>
        </p:nvPicPr>
        <p:blipFill>
          <a:blip r:embed="rId2"/>
          <a:stretch/>
        </p:blipFill>
        <p:spPr>
          <a:xfrm>
            <a:off x="380880" y="228600"/>
            <a:ext cx="2232000" cy="167328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2195640" y="3357720"/>
            <a:ext cx="1296720" cy="6476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0" name="AutoShape 8"/>
          <p:cNvCxnSpPr/>
          <p:nvPr/>
        </p:nvCxnSpPr>
        <p:spPr>
          <a:xfrm>
            <a:off x="-360" y="3438360"/>
            <a:ext cx="4585320" cy="3439440"/>
          </a:xfrm>
          <a:prstGeom prst="straightConnector1">
            <a:avLst/>
          </a:prstGeom>
          <a:ln w="0">
            <a:noFill/>
          </a:ln>
        </p:spPr>
      </p:cxnSp>
      <p:sp>
        <p:nvSpPr>
          <p:cNvPr id="61" name="AutoShape 9"/>
          <p:cNvSpPr/>
          <p:nvPr/>
        </p:nvSpPr>
        <p:spPr>
          <a:xfrm>
            <a:off x="4572000" y="3716280"/>
            <a:ext cx="1224000" cy="10080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6877080" y="3213000"/>
            <a:ext cx="86364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5796000" y="5157720"/>
            <a:ext cx="1511280" cy="1224000"/>
          </a:xfrm>
          <a:prstGeom prst="leftRightArrow">
            <a:avLst>
              <a:gd name="adj1" fmla="val 50000"/>
              <a:gd name="adj2" fmla="val 245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" name="AutoShape 39"/>
          <p:cNvCxnSpPr/>
          <p:nvPr/>
        </p:nvCxnSpPr>
        <p:spPr>
          <a:xfrm>
            <a:off x="6192360" y="476280"/>
            <a:ext cx="1080" cy="1945440"/>
          </a:xfrm>
          <a:prstGeom prst="straightConnector1">
            <a:avLst/>
          </a:prstGeom>
          <a:ln w="0">
            <a:noFill/>
          </a:ln>
        </p:spPr>
      </p:cxnSp>
      <p:sp>
        <p:nvSpPr>
          <p:cNvPr id="65" name="Rectangle 40"/>
          <p:cNvSpPr/>
          <p:nvPr/>
        </p:nvSpPr>
        <p:spPr>
          <a:xfrm>
            <a:off x="5867280" y="148428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41"/>
          <p:cNvSpPr/>
          <p:nvPr/>
        </p:nvSpPr>
        <p:spPr>
          <a:xfrm>
            <a:off x="6516720" y="549360"/>
            <a:ext cx="2017800" cy="194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" name="AutoShape 42"/>
          <p:cNvCxnSpPr>
            <a:stCxn id="66" idx="0"/>
            <a:endCxn id="66" idx="4"/>
          </p:cNvCxnSpPr>
          <p:nvPr/>
        </p:nvCxnSpPr>
        <p:spPr>
          <a:xfrm>
            <a:off x="7525800" y="511200"/>
            <a:ext cx="1080" cy="2021760"/>
          </a:xfrm>
          <a:prstGeom prst="straightConnector1">
            <a:avLst/>
          </a:prstGeom>
          <a:ln w="76320">
            <a:solidFill>
              <a:srgbClr val="006666"/>
            </a:solidFill>
            <a:miter/>
          </a:ln>
        </p:spPr>
      </p:cxnSp>
      <p:sp>
        <p:nvSpPr>
          <p:cNvPr id="68" name="Rectangle 43"/>
          <p:cNvSpPr/>
          <p:nvPr/>
        </p:nvSpPr>
        <p:spPr>
          <a:xfrm>
            <a:off x="6948360" y="1341360"/>
            <a:ext cx="1079640" cy="5032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AutoShape 44"/>
          <p:cNvSpPr/>
          <p:nvPr/>
        </p:nvSpPr>
        <p:spPr>
          <a:xfrm>
            <a:off x="2627280" y="1916280"/>
            <a:ext cx="3600360" cy="36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45"/>
          <p:cNvSpPr/>
          <p:nvPr/>
        </p:nvSpPr>
        <p:spPr>
          <a:xfrm>
            <a:off x="2627280" y="1916280"/>
            <a:ext cx="360036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46"/>
          <p:cNvSpPr/>
          <p:nvPr/>
        </p:nvSpPr>
        <p:spPr>
          <a:xfrm>
            <a:off x="3132000" y="191628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7093080" y="25635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8"/>
          <p:cNvSpPr/>
          <p:nvPr/>
        </p:nvSpPr>
        <p:spPr>
          <a:xfrm>
            <a:off x="4859280" y="2274480"/>
            <a:ext cx="18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9"/>
          <p:cNvSpPr/>
          <p:nvPr/>
        </p:nvSpPr>
        <p:spPr>
          <a:xfrm>
            <a:off x="1000440" y="1914120"/>
            <a:ext cx="7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831960" y="2593440"/>
            <a:ext cx="7626240" cy="31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2771640" y="2565360"/>
            <a:ext cx="5183280" cy="2160720"/>
          </a:xfrm>
          <a:prstGeom prst="parallelogram">
            <a:avLst>
              <a:gd name="adj" fmla="val 59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425760" y="2060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106480" y="1989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6957720" y="479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561760" y="486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4067280" y="2565360"/>
            <a:ext cx="26654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771640" y="2565000"/>
            <a:ext cx="518508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15052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2771640" y="2565360"/>
            <a:ext cx="5183280" cy="2160720"/>
          </a:xfrm>
          <a:prstGeom prst="parallelogram">
            <a:avLst>
              <a:gd name="adj" fmla="val 59972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4067280" y="2565360"/>
            <a:ext cx="26654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rc 14"/>
          <p:cNvSpPr/>
          <p:nvPr/>
        </p:nvSpPr>
        <p:spPr>
          <a:xfrm>
            <a:off x="4932360" y="3213000"/>
            <a:ext cx="863640" cy="72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0.19931 -3.33333E-006 C 0.28837 -3.33333E-006 0.39879 0.09908 0.39879 0.18056 L 0.39879 0.36181 E">
                                      <p:cBhvr>
                                        <p:cTn id="5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343080" y="2781360"/>
            <a:ext cx="8232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心对称的定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个图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绕着某一点旋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它能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另一个图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重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就说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两个图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关于这点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6200" y="33130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44360" y="620640"/>
            <a:ext cx="8417160" cy="1921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zh-CN" sz="4800" spc="-1" strike="noStrike">
                <a:solidFill>
                  <a:srgbClr val="ff0000"/>
                </a:solidFill>
                <a:latin typeface="宋体"/>
              </a:rPr>
              <a:t>把</a:t>
            </a:r>
            <a:r>
              <a:rPr b="1" i="1" lang="zh-CN" sz="4800" spc="-1" strike="noStrike">
                <a:solidFill>
                  <a:srgbClr val="0070c0"/>
                </a:solidFill>
                <a:latin typeface="宋体"/>
              </a:rPr>
              <a:t>一个图形</a:t>
            </a:r>
            <a:r>
              <a:rPr b="1" i="1" lang="zh-CN" sz="4800" spc="-1" strike="noStrike">
                <a:solidFill>
                  <a:srgbClr val="ff0000"/>
                </a:solidFill>
                <a:latin typeface="宋体"/>
              </a:rPr>
              <a:t>绕着某一点旋转</a:t>
            </a:r>
            <a:r>
              <a:rPr b="1" i="1" lang="en-US" sz="4800" spc="-1" strike="noStrike">
                <a:solidFill>
                  <a:srgbClr val="ff0000"/>
                </a:solidFill>
                <a:latin typeface="宋体"/>
              </a:rPr>
              <a:t>180</a:t>
            </a:r>
            <a:r>
              <a:rPr b="1" i="1" lang="en-US" sz="4800" spc="-1" strike="noStrike" baseline="30000">
                <a:solidFill>
                  <a:srgbClr val="ff0000"/>
                </a:solidFill>
                <a:latin typeface="宋体"/>
              </a:rPr>
              <a:t>0</a:t>
            </a:r>
            <a:r>
              <a:rPr b="1" i="1" lang="en-US" sz="4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i="1" lang="zh-CN" sz="4800" spc="-1" strike="noStrike">
                <a:solidFill>
                  <a:srgbClr val="ff0000"/>
                </a:solidFill>
                <a:latin typeface="宋体"/>
              </a:rPr>
              <a:t>如果旋转后的图形能够和</a:t>
            </a:r>
            <a:r>
              <a:rPr b="1" i="1" lang="zh-CN" sz="4800" spc="-1" strike="noStrike">
                <a:solidFill>
                  <a:srgbClr val="0070c0"/>
                </a:solidFill>
                <a:latin typeface="宋体"/>
              </a:rPr>
              <a:t>原来的图形</a:t>
            </a:r>
            <a:r>
              <a:rPr b="1" i="1" lang="zh-CN" sz="4800" spc="-1" strike="noStrike">
                <a:solidFill>
                  <a:srgbClr val="ff0000"/>
                </a:solidFill>
                <a:latin typeface="宋体"/>
              </a:rPr>
              <a:t>相互重合</a:t>
            </a:r>
            <a:r>
              <a:rPr b="1" i="1" lang="en-US" sz="4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i="1" lang="zh-CN" sz="4800" spc="-1" strike="noStrike">
                <a:solidFill>
                  <a:srgbClr val="ff0000"/>
                </a:solidFill>
                <a:latin typeface="宋体"/>
              </a:rPr>
              <a:t>那么这个图形叫</a:t>
            </a:r>
            <a:r>
              <a:rPr b="1" i="1" lang="zh-CN" sz="4800" spc="-1" strike="noStrike">
                <a:solidFill>
                  <a:srgbClr val="0070c0"/>
                </a:solidFill>
                <a:latin typeface="宋体"/>
              </a:rPr>
              <a:t>中心对称图形</a:t>
            </a:r>
            <a:r>
              <a:rPr b="1" i="1" lang="zh-CN" sz="48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455840" y="134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253600" y="549360"/>
            <a:ext cx="37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练一练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下面哪个图形是中心对称图形？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684360" y="476280"/>
            <a:ext cx="7390800" cy="4038120"/>
            <a:chOff x="684360" y="476280"/>
            <a:chExt cx="7390800" cy="4038120"/>
          </a:xfrm>
        </p:grpSpPr>
        <p:sp>
          <p:nvSpPr>
            <p:cNvPr id="94" name="Text Box 7"/>
            <p:cNvSpPr/>
            <p:nvPr/>
          </p:nvSpPr>
          <p:spPr>
            <a:xfrm>
              <a:off x="1656360" y="476280"/>
              <a:ext cx="184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5" name="Picture 8" descr="tu 3"/>
            <p:cNvPicPr/>
            <p:nvPr/>
          </p:nvPicPr>
          <p:blipFill>
            <a:blip r:embed="rId1"/>
            <a:stretch/>
          </p:blipFill>
          <p:spPr>
            <a:xfrm>
              <a:off x="684360" y="1712160"/>
              <a:ext cx="7390800" cy="2802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8" descr="113"/>
          <p:cNvPicPr/>
          <p:nvPr/>
        </p:nvPicPr>
        <p:blipFill>
          <a:blip r:embed="rId1"/>
          <a:stretch/>
        </p:blipFill>
        <p:spPr>
          <a:xfrm>
            <a:off x="2994120" y="3436920"/>
            <a:ext cx="2274840" cy="1135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20040520092130354"/>
          <p:cNvPicPr/>
          <p:nvPr/>
        </p:nvPicPr>
        <p:blipFill>
          <a:blip r:embed="rId2"/>
          <a:stretch/>
        </p:blipFill>
        <p:spPr>
          <a:xfrm>
            <a:off x="857160" y="4869000"/>
            <a:ext cx="1416240" cy="1576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8"/>
          <p:cNvPicPr/>
          <p:nvPr/>
        </p:nvPicPr>
        <p:blipFill>
          <a:blip r:embed="rId3"/>
          <a:stretch/>
        </p:blipFill>
        <p:spPr>
          <a:xfrm>
            <a:off x="6372360" y="11206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7" descr="00"/>
          <p:cNvPicPr/>
          <p:nvPr/>
        </p:nvPicPr>
        <p:blipFill>
          <a:blip r:embed="rId4"/>
          <a:stretch/>
        </p:blipFill>
        <p:spPr>
          <a:xfrm>
            <a:off x="677880" y="3325680"/>
            <a:ext cx="1873080" cy="124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花魁"/>
          <p:cNvPicPr/>
          <p:nvPr/>
        </p:nvPicPr>
        <p:blipFill>
          <a:blip r:embed="rId5"/>
          <a:stretch/>
        </p:blipFill>
        <p:spPr>
          <a:xfrm>
            <a:off x="5867280" y="3382920"/>
            <a:ext cx="2202120" cy="1725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9"/>
          <p:cNvSpPr/>
          <p:nvPr/>
        </p:nvSpPr>
        <p:spPr>
          <a:xfrm>
            <a:off x="595440" y="484920"/>
            <a:ext cx="664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  <a:ea typeface="楷体_GB2312"/>
              </a:rPr>
              <a:t>H  I  M  N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968400" y="1843920"/>
            <a:ext cx="316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Dotum"/>
                <a:ea typeface="楷体_GB2312"/>
              </a:rPr>
              <a:t>回   人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95120" y="189000"/>
            <a:ext cx="8948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三、自我检测：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选择题：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图形中即是轴对称图形又是中心对称图形的是（   ）     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边三角形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段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行四边形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41800" y="1346040"/>
            <a:ext cx="6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5840" y="263700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多边形中，是中心对称图形而不是轴对称图形的是（  ）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行四边形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矩形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菱形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方形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73320" y="2768760"/>
            <a:ext cx="44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95280" y="408132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：下列命题中真命题的个数是（    ）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心对称的两个图形一定不全等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心对称的两个图形是全等形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个全等的图形一定关于中心对称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 0         B 1       C 2         D 3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864480" y="37591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533520" y="1600200"/>
            <a:ext cx="8262720" cy="3392280"/>
            <a:chOff x="533520" y="1600200"/>
            <a:chExt cx="8262720" cy="3392280"/>
          </a:xfrm>
        </p:grpSpPr>
        <p:pic>
          <p:nvPicPr>
            <p:cNvPr id="110" name="Picture 3" descr="黑8"/>
            <p:cNvPicPr/>
            <p:nvPr/>
          </p:nvPicPr>
          <p:blipFill>
            <a:blip r:embed="rId1"/>
            <a:stretch/>
          </p:blipFill>
          <p:spPr>
            <a:xfrm>
              <a:off x="2389320" y="3346920"/>
              <a:ext cx="86040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4"/>
            <p:cNvSpPr/>
            <p:nvPr/>
          </p:nvSpPr>
          <p:spPr>
            <a:xfrm>
              <a:off x="814320" y="1600200"/>
              <a:ext cx="7479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" name="Picture 5" descr="黑9"/>
            <p:cNvPicPr/>
            <p:nvPr/>
          </p:nvPicPr>
          <p:blipFill>
            <a:blip r:embed="rId2"/>
            <a:stretch/>
          </p:blipFill>
          <p:spPr>
            <a:xfrm>
              <a:off x="533520" y="3346920"/>
              <a:ext cx="86184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6" descr="方丁"/>
            <p:cNvPicPr/>
            <p:nvPr/>
          </p:nvPicPr>
          <p:blipFill>
            <a:blip r:embed="rId3"/>
            <a:stretch/>
          </p:blipFill>
          <p:spPr>
            <a:xfrm>
              <a:off x="1452600" y="3346920"/>
              <a:ext cx="86364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7" descr="草3"/>
            <p:cNvPicPr/>
            <p:nvPr/>
          </p:nvPicPr>
          <p:blipFill>
            <a:blip r:embed="rId4"/>
            <a:stretch/>
          </p:blipFill>
          <p:spPr>
            <a:xfrm>
              <a:off x="3326040" y="3346920"/>
              <a:ext cx="86184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8" descr="黑8"/>
            <p:cNvPicPr/>
            <p:nvPr/>
          </p:nvPicPr>
          <p:blipFill>
            <a:blip r:embed="rId5"/>
            <a:stretch/>
          </p:blipFill>
          <p:spPr>
            <a:xfrm>
              <a:off x="7000920" y="3367080"/>
              <a:ext cx="86040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9" descr="黑9"/>
            <p:cNvPicPr/>
            <p:nvPr/>
          </p:nvPicPr>
          <p:blipFill>
            <a:blip r:embed="rId6"/>
            <a:stretch/>
          </p:blipFill>
          <p:spPr>
            <a:xfrm>
              <a:off x="5127840" y="3367080"/>
              <a:ext cx="86184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0" descr="方丁"/>
            <p:cNvPicPr/>
            <p:nvPr/>
          </p:nvPicPr>
          <p:blipFill>
            <a:blip r:embed="rId7"/>
            <a:stretch/>
          </p:blipFill>
          <p:spPr>
            <a:xfrm>
              <a:off x="6062760" y="3367080"/>
              <a:ext cx="86364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1" descr="草3"/>
            <p:cNvPicPr/>
            <p:nvPr/>
          </p:nvPicPr>
          <p:blipFill>
            <a:blip r:embed="rId8"/>
            <a:stretch/>
          </p:blipFill>
          <p:spPr>
            <a:xfrm>
              <a:off x="7934400" y="3367080"/>
              <a:ext cx="861840" cy="162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Rectangle 12"/>
          <p:cNvSpPr/>
          <p:nvPr/>
        </p:nvSpPr>
        <p:spPr>
          <a:xfrm>
            <a:off x="609480" y="762120"/>
            <a:ext cx="16089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一次游戏当中，小明将下面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左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四张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扑克牌中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一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旋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8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后，得到右图，小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亮看完，很快知道小明旋转了哪一张扑克，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知道为什么吗？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07:37:27Z</dcterms:created>
  <dc:creator>周小军</dc:creator>
  <dc:description/>
  <dc:language>en-US</dc:language>
  <cp:lastModifiedBy>Administrator</cp:lastModifiedBy>
  <dcterms:modified xsi:type="dcterms:W3CDTF">2017-10-17T03:45:30Z</dcterms:modified>
  <cp:revision>90</cp:revision>
  <dc:subject/>
  <dc:title>PowerPoint 演示文稿</dc:title>
</cp:coreProperties>
</file>